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035-EFD5-4323-B797-A0834200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673-1E7D-4CB4-817D-CEE135EC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806-3FB2-42DC-ADC7-43E4A0F4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CBD-42AA-413D-8857-C760C0F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ECD-CC1D-4A1E-9C70-9E5380DA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B61-4F11-4D08-A866-036CB77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E08-570D-440B-8F8A-E92D6F22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659-D870-491B-9F14-38D5BE7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D86-50EF-422C-99CE-4E5D1B9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E72-36C0-4DCA-8668-0C67111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8FD-EDB7-4201-A060-6E05433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556-0E27-423F-9757-9EAD606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6B5-64D9-4D27-BBDA-7BC7A232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033000">
            <a:off x="7162560" y="56386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9485600">
            <a:off x="4876560" y="54100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1500120" y="6095880"/>
            <a:ext cx="3000240" cy="225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587000">
            <a:off x="3124080" y="586224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7869000">
            <a:off x="2823840" y="502452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396800">
            <a:off x="1447560" y="4600080"/>
            <a:ext cx="3000240" cy="225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-422280" y="4343400"/>
            <a:ext cx="843120" cy="79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458200" y="4122720"/>
            <a:ext cx="1028880" cy="114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-1905120" y="304920"/>
            <a:ext cx="2133720" cy="129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0102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0069 L -0.25833 -0.00069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19977 L -0.00834 -0.13318 E">
                                      <p:cBhvr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.02101 -0.06635 0.04219 -0.13248 0.08941 -0.15976 C 0.13646 -0.18659 0.2467 -0.16161 0.2816 -0.163 C 0.31667 -0.16462 0.29549 -0.16739 0.29913 -0.1699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.49167 0.00855 E">
                                      <p:cBhvr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84971E-006 L -0.48125 0.00393 E">
                                      <p:cBhvr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641 C 0.05295 -0.02636 0.10556 -0.10914 0.15886 -0.09411 C 0.21198 -0.07908 0.24202 0.11768 0.31927 0.14566 C 0.3967 0.17456 0.51841 -0.00093 0.62223 0.0756 C 0.72587 0.15214 0.83351 0.37826 0.94167 0.60485 E">
                                      <p:cBhvr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21:51Z</dcterms:created>
  <dc:creator>JEFFCO</dc:creator>
  <dc:description/>
  <dc:language>en-US</dc:language>
  <cp:lastModifiedBy>JEFFCO</cp:lastModifiedBy>
  <dcterms:modified xsi:type="dcterms:W3CDTF">2009-10-23T18:42:44Z</dcterms:modified>
  <cp:revision>8</cp:revision>
  <dc:subject/>
  <dc:title>Slide 1</dc:title>
</cp:coreProperties>
</file>